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3AA02-14A9-49F0-8E6C-28E037B965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8D3D1-7210-4D9E-8DE7-3AD360B77A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96094-A2A3-42E4-BCD9-BDCE38B676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412D0-912E-42F4-BDFA-CB0FBAA68B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9B55D-32CD-4C8B-8ED8-C846894A90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F3C67-786F-499E-BE8C-106A7CEEF9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59511-F9CB-49EE-80EA-5EA8D557DF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ADF53-3A08-4FB7-AD50-B807A11D38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76564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FE84A-08BE-4ADD-A751-635127AAD8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D4FA5-5DF3-4957-96E0-2853F4F63D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347DD-FC60-4D37-86C4-06022B2135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2F29C-1BB7-4086-9A05-4357575DBF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821720" y="658512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6F3AC88D-96D0-449A-A275-E92CEA54B82A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1908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CALL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Dokumentation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. gedruckt am: </a:t>
            </a:r>
            <a:fld id="{56DF91D1-BE52-44B6-909D-17B3BDBCA4F1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Grafik 2" descr=""/>
          <p:cNvPicPr/>
          <p:nvPr/>
        </p:nvPicPr>
        <p:blipFill>
          <a:blip r:embed="rId9"/>
          <a:srcRect l="78420" t="0" r="0" b="0"/>
          <a:stretch/>
        </p:blipFill>
        <p:spPr>
          <a:xfrm>
            <a:off x="8839080" y="44280"/>
            <a:ext cx="97020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oliennummernplatzhalter 2"/>
          <p:cNvSpPr/>
          <p:nvPr/>
        </p:nvSpPr>
        <p:spPr>
          <a:xfrm>
            <a:off x="7821720" y="658512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6F968FAD-4F19-487B-8383-5E46BD72FAEC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#CustomName# Upgrade #NX#  - #TC#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58920" y="2374920"/>
            <a:ext cx="928836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0" bIns="0" anchor="ctr">
            <a:noAutofit/>
          </a:bodyPr>
          <a:p>
            <a:pPr>
              <a:tabLst>
                <a:tab algn="l" pos="0"/>
                <a:tab algn="l" pos="10796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ALL: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#CallNr#  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#CallDescription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58920" y="4724280"/>
            <a:ext cx="4125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: 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#??.??.201?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Von: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#Name1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tand: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#??.??.201?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eschreibung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oliennummernplatzhalter 2"/>
          <p:cNvSpPr/>
          <p:nvPr/>
        </p:nvSpPr>
        <p:spPr>
          <a:xfrm>
            <a:off x="7821720" y="658512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8DC64F91-663C-4890-AFAB-B3A190BEDDE8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feld 3"/>
          <p:cNvSpPr/>
          <p:nvPr/>
        </p:nvSpPr>
        <p:spPr>
          <a:xfrm>
            <a:off x="236520" y="106848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itte hier den Beschreibungstext einfü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31"/>
          <p:cNvSpPr/>
          <p:nvPr/>
        </p:nvSpPr>
        <p:spPr>
          <a:xfrm>
            <a:off x="-411120" y="238284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32"/>
          <p:cNvSpPr/>
          <p:nvPr/>
        </p:nvSpPr>
        <p:spPr>
          <a:xfrm>
            <a:off x="-411120" y="267336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33"/>
          <p:cNvSpPr/>
          <p:nvPr/>
        </p:nvSpPr>
        <p:spPr>
          <a:xfrm>
            <a:off x="-411120" y="3013200"/>
            <a:ext cx="216000" cy="21744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7"/>
          <p:cNvGraphicFramePr/>
          <p:nvPr/>
        </p:nvGraphicFramePr>
        <p:xfrm>
          <a:off x="-411120" y="3392640"/>
          <a:ext cx="304920" cy="30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11120" y="3392640"/>
                    <a:ext cx="3049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Picture 8" descr="wichtig"/>
          <p:cNvPicPr/>
          <p:nvPr/>
        </p:nvPicPr>
        <p:blipFill>
          <a:blip r:embed="rId3"/>
          <a:stretch/>
        </p:blipFill>
        <p:spPr>
          <a:xfrm>
            <a:off x="-438120" y="3857760"/>
            <a:ext cx="331920" cy="312480"/>
          </a:xfrm>
          <a:prstGeom prst="rect">
            <a:avLst/>
          </a:prstGeom>
          <a:ln w="0">
            <a:noFill/>
          </a:ln>
        </p:spPr>
      </p:pic>
      <p:sp>
        <p:nvSpPr>
          <p:cNvPr id="56" name="Oval 131"/>
          <p:cNvSpPr/>
          <p:nvPr/>
        </p:nvSpPr>
        <p:spPr>
          <a:xfrm>
            <a:off x="-411120" y="209700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2-08-09T09:13:30Z</dcterms:modified>
  <cp:revision>159</cp:revision>
  <dc:subject/>
  <dc:title>Refile Manager V1.0</dc:title>
</cp:coreProperties>
</file>